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ng" ContentType="image/png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DB0-4555-4AD5-9609-E8AEC1F4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252-55A6-48D1-8560-D3CB61C5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568-17DD-4D36-8C9B-6B058D2C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BC8-32E7-4060-B862-D1CD7E0C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862D-34A3-4B86-A908-89916072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239D-84C2-4501-A6E8-6B3AB564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51AC-F012-4CDF-92EC-406351CC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621A-7B43-4449-9917-A3384B88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9E16-2A35-4794-A907-CA596064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38E8-3B16-49CC-9104-061F7ABE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70E2-6FA6-4D20-A600-D736AF02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C71-5211-496D-A65E-6594C0BF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1F87-D34A-4C8A-9F44-6665EF1E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D894-2F25-465F-8490-90DEBDA7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2664-2902-4AC6-AA01-164F022C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AEFD-D2FD-44BB-AB5B-A42D66E4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4FEB-1E55-4C28-AFB0-C37A8050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5D1-11D7-4801-A78D-26026D53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9B2-F18E-42BD-9461-35B3C2BC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541-2644-4F9F-A77A-E682EEEE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207-D9EC-489F-954B-C9D60F97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18B-DDC8-466A-8245-10F837D7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426-74BF-4919-B91A-0D18DA2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EEA-BF95-4345-8747-E6FB4BE7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4CE9-E502-4584-94BD-EF5B411064CF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DE7E-2529-421A-B37D-6ACD334A6C82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The Face on the Milk Carton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Book by: Caroline B. Cooney</a:t>
            </a:r>
            <a:br>
              <a:rPr sz="3200"/>
            </a:b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Powerpoint by: K. G. 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Thank You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Exciting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5105160" cy="503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Mystery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Surprising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Read Aloud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Pgs 71-72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hapter 8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88120" y="1143000"/>
            <a:ext cx="2627280" cy="441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7524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00800" y="327672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638680" y="2133720"/>
            <a:ext cx="12960" cy="1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181480" cy="382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330660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3:29:01Z</dcterms:created>
  <dc:creator>cysd</dc:creator>
  <dc:description/>
  <dc:language>en-US</dc:language>
  <cp:lastModifiedBy>Tiffany Brewer</cp:lastModifiedBy>
  <dcterms:modified xsi:type="dcterms:W3CDTF">2008-11-25T23:13:59Z</dcterms:modified>
  <cp:revision>8</cp:revision>
  <dc:subject/>
  <dc:title>The Face on the Milk Carton</dc:title>
</cp:coreProperties>
</file>